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03E-AE8D-463C-8D69-4D3CA58C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064-8878-4DD3-8BA1-DBB263F9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071-C6D0-4560-9C1D-89EEBC01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BF8-583A-4918-80C7-A37078F9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367E-C0BB-45B4-B7B7-6DDA1ACB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DF41-0BDC-41BA-8BA6-1CC04DE7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34ED-D431-4948-AD24-F635ACAB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ACA8-EDE4-4075-B83A-28857982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55C5-8847-4F3F-A752-5363AD38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90AA-16AB-4462-8682-63EEE71B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0C72-C21E-492D-82DA-9E7D3236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C59-81C4-468F-94B8-E05B5147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C5E0-542F-494F-923D-72FE6129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484F-54B7-43AC-9EA7-A1D3C405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26F3-9E07-4443-9F00-E35259F1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E3D5-61EC-471C-AA1F-CFB6354A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C394-025B-47E3-8F93-9F7445CB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3B6-FF4F-49BE-8736-9C09265E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FF6-0F8F-426F-9576-933C82CB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2534-F839-4554-97FE-A9B03C5B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863-D4D0-4A72-9D80-FB47CAA1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647-D7C6-47F0-94FE-3E3F6EC1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8E8-F9F2-418D-B8E7-3087C6F7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CF9-F70D-47F8-8382-284CF947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3034-A0DD-4FF0-8C3D-F8D46F798E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C30C-202B-4F0D-B9E0-B34E1F1206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laughingsquid.com/video-explaining-us-presidential-election-process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breen"/>
          <p:cNvPicPr/>
          <p:nvPr/>
        </p:nvPicPr>
        <p:blipFill>
          <a:blip r:embed="rId1"/>
          <a:stretch/>
        </p:blipFill>
        <p:spPr>
          <a:xfrm>
            <a:off x="0" y="304920"/>
            <a:ext cx="9134640" cy="6172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722240" y="6498720"/>
            <a:ext cx="569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teve Breen, New Jerse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-- Steve's Pulitzer Prize winning cartoons from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sbury Park Pres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eople oppose allowing the national government to decide a presidential electi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Stat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l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state cast an overall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lectoral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ote for the winning candida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e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lieved that the general public did not know enough about candidates or politics to cast an adequate vo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 a system to keep the general “masses” from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rectl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voting for a Presiden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te electors cast official votes for President and Vice-President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e popular vote occur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oin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lector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en of characte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nowledgeable about politic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gree upon and select candidates who could represent the majority of the people as a President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09480" y="762120"/>
            <a:ext cx="7925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LUTION: A “fool-proof” pl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were citizens supposed to know anything about candidates from other states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“mass media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portation and communication were difficul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likely that even those citizens who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we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knowledgeable about politics could be fully informed to make decisions about candidates from other stat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ustific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ectors would keep the people from voting on candidates from their own stat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No candidate would get a national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ajorit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if that happene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da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lection process is basically the sa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oting allows a voter to “tell” electors which candidate the voter wants the elector to vote fo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ithless electors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o law stating that electors </a:t>
            </a:r>
            <a:r>
              <a:rPr b="0" i="1" lang="en-US" sz="2300" spc="-1" strike="noStrike">
                <a:solidFill>
                  <a:srgbClr val="000000"/>
                </a:solidFill>
                <a:latin typeface="Verdana"/>
              </a:rPr>
              <a:t>hav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to vote for the candidate that they originally pledged their vote to!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n Ideal Ele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496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esident =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ucated M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 Political Knowled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jor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pular Vo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jor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oral Vo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9" descr="barack-obama-oath-of-office-012009-by-reuters"/>
          <p:cNvPicPr/>
          <p:nvPr/>
        </p:nvPicPr>
        <p:blipFill>
          <a:blip r:embed="rId1"/>
          <a:stretch/>
        </p:blipFill>
        <p:spPr>
          <a:xfrm>
            <a:off x="4876920" y="2057400"/>
            <a:ext cx="38862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The Election Process in Plain Englis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6" descr="election process.jpg"/>
          <p:cNvPicPr/>
          <p:nvPr/>
        </p:nvPicPr>
        <p:blipFill>
          <a:blip r:embed="rId2"/>
          <a:stretch/>
        </p:blipFill>
        <p:spPr>
          <a:xfrm>
            <a:off x="2057400" y="2971800"/>
            <a:ext cx="46483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22160" y="2895480"/>
            <a:ext cx="7772400" cy="28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NOTHER WAY TO LOOK AT THE ELECTORAL COLLEGE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001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mpare it to the World Series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5486040"/>
            <a:ext cx="30081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by George Will, newspaper columnist, journalist, author, Pulitzer Prize winn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Content Placeholder 14" descr="img-cs---yankees-world-series_072549497070.jpg"/>
          <p:cNvPicPr/>
          <p:nvPr/>
        </p:nvPicPr>
        <p:blipFill>
          <a:blip r:embed="rId1"/>
          <a:stretch/>
        </p:blipFill>
        <p:spPr>
          <a:xfrm>
            <a:off x="3352680" y="1800360"/>
            <a:ext cx="2895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ctoral College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ously, why does it even exis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ectoral Colle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9" descr="image002"/>
          <p:cNvPicPr/>
          <p:nvPr/>
        </p:nvPicPr>
        <p:blipFill>
          <a:blip r:embed="rId1"/>
          <a:stretch/>
        </p:blipFill>
        <p:spPr>
          <a:xfrm>
            <a:off x="2895480" y="3092400"/>
            <a:ext cx="5791320" cy="3552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 majority of the electors from the 50 st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70 electoral vo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World Series winner must be the first to win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our of a possible seven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mes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30" descr="041020_redsoxceleb_vlg_10p"/>
          <p:cNvPicPr/>
          <p:nvPr/>
        </p:nvPicPr>
        <p:blipFill>
          <a:blip r:embed="rId1"/>
          <a:stretch/>
        </p:blipFill>
        <p:spPr>
          <a:xfrm>
            <a:off x="5562720" y="2971800"/>
            <a:ext cx="2931840" cy="34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2496960" y="-719280"/>
          <a:ext cx="4151520" cy="487440"/>
        </p:xfrm>
        <a:graphic>
          <a:graphicData uri="http://schemas.openxmlformats.org/drawingml/2006/table">
            <a:tbl>
              <a:tblPr/>
              <a:tblGrid>
                <a:gridCol w="415152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Rectangle 26"/>
          <p:cNvSpPr/>
          <p:nvPr/>
        </p:nvSpPr>
        <p:spPr>
          <a:xfrm>
            <a:off x="838080" y="3505320"/>
            <a:ext cx="3733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ankees 10, Red Sox 7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ankees 3, Red Sox 1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 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ankees 19, Red Sox 8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M 4: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Red Sox 6, Yankees 4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M 5: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Red Sox 5, Yankees 4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M 6: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Red Sox 4, Yankees 2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M 7: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Red Sox 10, Yankees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152280" y="594360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Our example will use the 2004 Championship Series: Red Sox defeat Yankees.  The concept, however, is the s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f the World Series were won by total points (popular vote)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8" descr="Picture2"/>
          <p:cNvPicPr/>
          <p:nvPr/>
        </p:nvPicPr>
        <p:blipFill>
          <a:blip r:embed="rId1"/>
          <a:stretch/>
        </p:blipFill>
        <p:spPr>
          <a:xfrm>
            <a:off x="304920" y="2971800"/>
            <a:ext cx="3746520" cy="2027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9"/>
          <p:cNvSpPr/>
          <p:nvPr/>
        </p:nvSpPr>
        <p:spPr>
          <a:xfrm>
            <a:off x="4572000" y="3200400"/>
            <a:ext cx="426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Yankees: 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Red Sox: 41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e team scores more, but who won the seri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 can’t change the rules in the middle of a gam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laws in the Syst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winner of the popular vote is not guaranteed the presid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ectors are not required to vote in accordance with the popular vo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y election might have to be decided in the House of Representati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ectoral Colleg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9" descr="image002"/>
          <p:cNvPicPr/>
          <p:nvPr/>
        </p:nvPicPr>
        <p:blipFill>
          <a:blip r:embed="rId1"/>
          <a:stretch/>
        </p:blipFill>
        <p:spPr>
          <a:xfrm>
            <a:off x="2895480" y="3092400"/>
            <a:ext cx="5791320" cy="3552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 majority of the electors from the 50 st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70 electoral vo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s the Electoral Colleg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ectors: popularly-elected representativ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ally elect the President and Vice President of the United Stat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 basically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ther than directly voting for the President and Vice President, United States citizens vote for elector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ever happened to democracy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thumbnailCA4PJYCQ.jpg"/>
          <p:cNvPicPr/>
          <p:nvPr/>
        </p:nvPicPr>
        <p:blipFill>
          <a:blip r:embed="rId1"/>
          <a:stretch/>
        </p:blipFill>
        <p:spPr>
          <a:xfrm>
            <a:off x="2590920" y="3276720"/>
            <a:ext cx="37335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he creation of the Electoral College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676520"/>
            <a:ext cx="438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O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ramers (creators) of the U.S. Constitution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lectoral Colle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ticle III, Section 1, Paragraphs 2 and 3 in the U.S. Constitu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EN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787 – 179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ER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itutional Convention, Philadelphia, Pennsylvani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Y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Represent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Fea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Knowledg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Scene_at_the_Signing_of_the_Constitution_of_the_United_States"/>
          <p:cNvPicPr/>
          <p:nvPr/>
        </p:nvPicPr>
        <p:blipFill>
          <a:blip r:embed="rId1"/>
          <a:stretch/>
        </p:blipFill>
        <p:spPr>
          <a:xfrm>
            <a:off x="4724280" y="1828800"/>
            <a:ext cx="4152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ramers: Why we need elect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ames Madison, Federalist No. 39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titution was designed to be a mixture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tate-bas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opulation-bas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govern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Congress would have two houses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ate-based Sen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pulation-based House of Representativ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esident would be elected by a mixture of the two modes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epresen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lance representation (pow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g states (like New York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 states (like Delawar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tes were already suspicious of giving the government too much control over state affair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4:12:49Z</dcterms:created>
  <dc:creator>Owner</dc:creator>
  <dc:description/>
  <dc:language>en-US</dc:language>
  <cp:lastModifiedBy>hberndt</cp:lastModifiedBy>
  <dcterms:modified xsi:type="dcterms:W3CDTF">2010-03-25T15:21:09Z</dcterms:modified>
  <cp:revision>9</cp:revision>
  <dc:subject/>
  <dc:title>Electoral College </dc:title>
</cp:coreProperties>
</file>